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5F52-55F0-4597-B5AD-2E03F2070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F6EE-513E-4881-BDA2-5D6FF68E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3324-AAB1-4EAC-BCB4-30BA72D66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CE70-BBD8-402A-AEE8-4D512A96F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3AE8-F13B-4C5E-AFCB-BE1DAD508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78AC-A97B-4AA5-88BE-42A48C99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EBBE-2B25-47B5-BCE8-8A60D3D8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43B7-52DD-4BAB-A1FF-4A80A326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B179-A77F-4CCD-8979-588FC820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7658-FD60-41E5-8C8D-3B2CE3C7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848A-58AF-4195-A88A-E1B469E8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5767-4F1F-40B0-93DD-C831EEA2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4732-BDE8-4939-9369-552EC1D6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9D35-87C2-4A6A-AF78-E23B9A21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9E05-2775-4C75-82D8-D9292FA1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466A-2404-4309-8C08-C49ED8D75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C3DA-B411-43E2-AA0E-A7AF157BB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E202-6153-4DD6-8487-350BAED3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5577-51F9-47A5-A0B7-F8B28722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A4AC-B44B-4C57-8E3C-572FEA0D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C615-FC95-45A2-AB8F-208709B0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78F3-A6A3-4777-AE9D-275D3235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55E2-67DF-4952-A652-D3823D45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A1B2-03EE-4DEB-8AD2-4F813B07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EE9B-DD96-4D62-A560-C8AB162C99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A749-D871-4F25-82E1-782608AA08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ccommodating Differences in Literacy Learners: Part I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ary A. Troia, Ph.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ichigan State Univers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380880" y="457200"/>
          <a:ext cx="830592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57200"/>
                    <a:ext cx="830592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457200" y="380880"/>
          <a:ext cx="815328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15328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380880" y="457200"/>
          <a:ext cx="830592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57200"/>
                    <a:ext cx="830592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457200" y="380880"/>
          <a:ext cx="8229600" cy="609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229600" cy="60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380880" y="380880"/>
          <a:ext cx="822960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880"/>
                    <a:ext cx="82296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380880" y="380880"/>
          <a:ext cx="8305920" cy="609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880"/>
                    <a:ext cx="8305920" cy="60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380880" y="380880"/>
          <a:ext cx="838224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880"/>
                    <a:ext cx="838224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ructional Methods &amp; Arrangement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rect Instr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master lower-level skills before higher-level skills are taugh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sk analyses are performed to sequence learning objectives to be mastered from least to most difficul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kills with high utility are taught before those that are less critic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tentially confusing details (e.g., b/d) are not introduced in close temporal ord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ization is programmed through the use of novel exemplars during assess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ght control over stimuli and materials is maintain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s are introduced only after mastery has been achiev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ttle reliance on incidental learn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ripts often are us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cement and mastery tests are used to monitor student progr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ing, guided practice with explicit feedback and prompts/cues, and many opportunities for independent practice are us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ponses and rules are verbalized repetitivel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havioral, reductionist/positivist teaching paradig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operative Learning 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-5 students work together in a heterogeneous group to master instructional cont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er serves as facilitator/mediator who ensures tha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 students actively particip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ibutions of all members are validat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operative behavior is frequently and explicitly modeled, reviewed, and reinforc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increase participation, can limit access to only one set of materials, randomly select one student's project for group grade, or limit contributions through token cost syste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with disabilities may not contribute nor benefit as much as other stud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erentiated materials and more intensive instructional support may be necessary for students with disabi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a number of different formats for cooperative group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igsaw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unterpart group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nk-pair-sh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ent teams-achievement divisions (STAD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ams-games-tournaments (TGT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er-Mediated Lear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pair to form a tutor/tutee relationship to learn content, skills, or strateg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utor should be only somewhat more competent than tutee so that both benefit from experien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th members of dyad should have the opportunity to act as tut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students must be oriented to purposes, responsibilities, guidelines, materials, and tactics for explanations, reinforcement, and error correction; initially there is much preparatory work for the teach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 on task is maximized because teacher does not need to be pres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truction can be individualized with ongoing teacher monitoring and suppor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should be provided opportunities to reflect on tutoring experiences and give feedback to the teach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ple formats are possib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e-age or cross-age peer tutor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iprocal peer tutor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-Wide Peer Tutoring (CWPT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er-Assisted Learning Strategies (PAL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Teach A Less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eneral Consider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nitor and adjust instructional languag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ugment verbal information through the use of key phrases, paralinguistic and extralinguistic cues, and graphic cu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void overuse of initiation-response-evaluation (IRE) cycle that serves to assess performance rather than teach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nitor student comprehension by asking students to repeat, rephrase, or summarize the information give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nitor academic learning time because it correlates highly with student achievemen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nitor student progres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mote motivation b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viding choices for tasks, problems, and material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lcoming student input regarding learning goals, objectives, and activitie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stablishing personal relevancy of activities by integrating student interest and experience in authentic learning task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sing effective behavior management techniques such as academic contracting and positive reinforcemen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nitor difficulty of content and skills; perform task analyses to ensure that prerequisite skills are evident or taugh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ach students academic survival strategies such a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stening strategie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 taking strategie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udy strategie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st taking strategie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mory strateg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80880" y="457200"/>
          <a:ext cx="838224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57200"/>
                    <a:ext cx="83822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380880" y="533520"/>
          <a:ext cx="8229600" cy="60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33520"/>
                    <a:ext cx="822960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304920" y="380880"/>
          <a:ext cx="853416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80880"/>
                    <a:ext cx="85341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304920" y="380880"/>
          <a:ext cx="8534160" cy="609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80880"/>
                    <a:ext cx="8534160" cy="60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22:46:37Z</dcterms:created>
  <dc:creator>College of Education</dc:creator>
  <dc:description/>
  <dc:language>en-US</dc:language>
  <cp:lastModifiedBy>College of Education</cp:lastModifiedBy>
  <dcterms:modified xsi:type="dcterms:W3CDTF">2006-11-28T02:20:06Z</dcterms:modified>
  <cp:revision>3</cp:revision>
  <dc:subject/>
  <dc:title>Slide 1</dc:title>
</cp:coreProperties>
</file>